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explode.wav" ContentType="audio/x-wav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B61-A84D-4D75-AEB9-8F3EB5C6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58E-6AFE-4676-AC31-6B79E911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C8C-0286-48AE-94A7-0C6B8075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7EC-48C5-4D27-92BE-4450CEA5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2D4D-BC20-4028-A28F-9084E5D5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4E69-70E2-47D9-A383-3AA2C76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B354-4BAF-4813-B065-33048D7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00D3-C1DF-497E-AD3F-8CB74EB1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0129-6891-4B7C-913B-75ABD573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501E-A96B-49D1-8D07-83FBC3E4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0A5B-F630-46F3-9462-3EA1909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FAB-9DA4-42D9-A36C-08CDABB4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473C-2A42-4389-8C3C-E2CA305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4A76-46F0-4D7A-AFD5-00BCF46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E789-DF21-4554-B35F-A0623AE3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F8A3-B8EC-4434-81F4-CD8766F3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1535-578C-41CE-B72B-42C49712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298-B73E-4494-A3A3-7E6BB63B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A29-2226-4590-B46A-6873F8D6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324-0899-44EE-A976-7618BC5D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7D4-0DEB-44DF-B01A-D24B520E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963-FAD7-422E-A3A7-719E098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5D9-F931-41A8-87EF-D63C2931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00C-999F-467F-8724-7E6BB9D5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3976-7284-4844-8A1B-0659517DA8C8}" type="slidenum">
              <a:rPr b="0" lang="es-E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31"/>
            <p:cNvGrpSpPr/>
            <p:nvPr/>
          </p:nvGrpSpPr>
          <p:grpSpPr>
            <a:xfrm>
              <a:off x="5261040" y="1420560"/>
              <a:ext cx="1101600" cy="1103400"/>
              <a:chOff x="5261040" y="1420560"/>
              <a:chExt cx="1101600" cy="1103400"/>
            </a:xfrm>
          </p:grpSpPr>
          <p:pic>
            <p:nvPicPr>
              <p:cNvPr id="355" name="Oval 31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0560"/>
                <a:ext cx="110160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800" y="1598400"/>
                <a:ext cx="75060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Oval 32"/>
            <p:cNvGrpSpPr/>
            <p:nvPr/>
          </p:nvGrpSpPr>
          <p:grpSpPr>
            <a:xfrm>
              <a:off x="5427720" y="1396800"/>
              <a:ext cx="851400" cy="854280"/>
              <a:chOff x="5427720" y="1396800"/>
              <a:chExt cx="851400" cy="854280"/>
            </a:xfrm>
          </p:grpSpPr>
          <p:pic>
            <p:nvPicPr>
              <p:cNvPr id="358" name="Oval 32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396800"/>
                <a:ext cx="85140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480" y="1537560"/>
                <a:ext cx="5734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0" name="Oval 28"/>
            <p:cNvGrpSpPr/>
            <p:nvPr/>
          </p:nvGrpSpPr>
          <p:grpSpPr>
            <a:xfrm>
              <a:off x="5040360" y="1865520"/>
              <a:ext cx="631080" cy="628560"/>
              <a:chOff x="5040360" y="1865520"/>
              <a:chExt cx="631080" cy="628560"/>
            </a:xfrm>
          </p:grpSpPr>
          <p:pic>
            <p:nvPicPr>
              <p:cNvPr id="361" name="Oval 28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5520"/>
                <a:ext cx="63108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4960"/>
                <a:ext cx="4161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" name="Oval 30"/>
            <p:cNvGrpSpPr/>
            <p:nvPr/>
          </p:nvGrpSpPr>
          <p:grpSpPr>
            <a:xfrm>
              <a:off x="5207400" y="1788480"/>
              <a:ext cx="518040" cy="515880"/>
              <a:chOff x="5207400" y="1788480"/>
              <a:chExt cx="518040" cy="515880"/>
            </a:xfrm>
          </p:grpSpPr>
          <p:pic>
            <p:nvPicPr>
              <p:cNvPr id="364" name="Oval 30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88480"/>
                <a:ext cx="51804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8120"/>
                <a:ext cx="33804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6" name="Oval 27"/>
            <p:cNvGrpSpPr/>
            <p:nvPr/>
          </p:nvGrpSpPr>
          <p:grpSpPr>
            <a:xfrm>
              <a:off x="4516560" y="2049480"/>
              <a:ext cx="291600" cy="296640"/>
              <a:chOff x="4516560" y="2049480"/>
              <a:chExt cx="291600" cy="296640"/>
            </a:xfrm>
          </p:grpSpPr>
          <p:pic>
            <p:nvPicPr>
              <p:cNvPr id="367" name="Oval 27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49480"/>
                <a:ext cx="29160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5960" y="2109600"/>
                <a:ext cx="17712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9" name="Oval 29"/>
            <p:cNvGrpSpPr/>
            <p:nvPr/>
          </p:nvGrpSpPr>
          <p:grpSpPr>
            <a:xfrm>
              <a:off x="5898240" y="993600"/>
              <a:ext cx="291600" cy="290520"/>
              <a:chOff x="5898240" y="993600"/>
              <a:chExt cx="291600" cy="290520"/>
            </a:xfrm>
          </p:grpSpPr>
          <p:pic>
            <p:nvPicPr>
              <p:cNvPr id="370" name="Oval 29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920" y="1048680"/>
                <a:ext cx="17712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2" name="Oval 33"/>
            <p:cNvGrpSpPr/>
            <p:nvPr/>
          </p:nvGrpSpPr>
          <p:grpSpPr>
            <a:xfrm>
              <a:off x="4849920" y="1865520"/>
              <a:ext cx="237960" cy="237240"/>
              <a:chOff x="4849920" y="1865520"/>
              <a:chExt cx="237960" cy="237240"/>
            </a:xfrm>
          </p:grpSpPr>
          <p:pic>
            <p:nvPicPr>
              <p:cNvPr id="373" name="Oval 33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5520"/>
                <a:ext cx="23796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73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5" name="Oval 34"/>
            <p:cNvGrpSpPr/>
            <p:nvPr/>
          </p:nvGrpSpPr>
          <p:grpSpPr>
            <a:xfrm>
              <a:off x="5916240" y="1058760"/>
              <a:ext cx="232200" cy="231120"/>
              <a:chOff x="5916240" y="1058760"/>
              <a:chExt cx="232200" cy="231120"/>
            </a:xfrm>
          </p:grpSpPr>
          <p:pic>
            <p:nvPicPr>
              <p:cNvPr id="376" name="Oval 3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840" y="11055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33D0-FCD6-40B3-8728-F850082097CE}" type="slidenum">
              <a:rPr b="0" lang="es-E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3 Imagen" descr=""/>
          <p:cNvPicPr/>
          <p:nvPr/>
        </p:nvPicPr>
        <p:blipFill>
          <a:blip r:embed="rId1"/>
          <a:stretch/>
        </p:blipFill>
        <p:spPr>
          <a:xfrm>
            <a:off x="2013120" y="1268280"/>
            <a:ext cx="551160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09800" y="333360"/>
            <a:ext cx="7124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Bell MT"/>
              </a:rPr>
              <a:t>MIS DERECH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1:42:05Z</dcterms:created>
  <dc:creator>usuario</dc:creator>
  <dc:description/>
  <dc:language>en-US</dc:language>
  <cp:lastModifiedBy>usuario</cp:lastModifiedBy>
  <dcterms:modified xsi:type="dcterms:W3CDTF">2013-04-03T01:49:31Z</dcterms:modified>
  <cp:revision>1</cp:revision>
  <dc:subject/>
  <dc:title>MIS DERECHOS</dc:title>
</cp:coreProperties>
</file>